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9CB2-D04A-4081-8F84-DB5C6833C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954D-3E16-45C4-8D67-73B78D97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00A9-DEA8-49B4-ABB1-0DBF0E71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5D90-0F96-466D-82AA-EDA26604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FE3E-49C1-49C7-8E44-F7E85130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F60D-8917-46FA-B617-D93FA470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46C3-5816-4888-A4B4-6D6F7A81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16F3-B956-4FC6-9CD4-F2780CCF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EC51-F230-4E76-B05A-55897B4A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0D13-782D-4EC4-9CA8-22B9ADE2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DA15-1C28-4BBE-AA62-2BCDEA1F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BD55-9231-4236-B943-1C336490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155B-50E6-4BE9-97DF-59DDED70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6893-6E90-45A2-9BE5-2A6F177E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D047-ACB7-4C57-84F7-917C57ED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22EF-4DBA-4CE3-87F6-448AFDB52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8364-9FBC-45A3-9D4B-07C0400E2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9EF7-0AEF-450F-940E-8E21F6B0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4453-24C6-4C5F-B7E0-AC3F428B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75AC-35B2-4844-82B9-A0EF6BE7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65D5-8031-40E6-8575-42BD556E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CB9A-9640-4879-B709-CA18AA63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4D93-F359-461F-BEF5-EE3B2DE3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D976-4811-4178-B4BA-52DDF680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C35E-23AA-49A4-9BFB-5521DBCA13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7CDB-26A0-4CA1-AFF2-5602BEDD3E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com.au/imgres?imgurl=http://proudatheists.files.wordpress.com/2009/07/9children.jpg&amp;imgrefurl=http://proudatheists.wordpress.com/2009/07/06/how-much-does-jesus-love-the-little-children/&amp;usg=__X8kha3jVPj8egkr2F_om6th7d2g=&amp;h=419&amp;w=418&amp;sz=47&amp;hl=en&amp;start=1&amp;itbs=1&amp;tbnid=Wz-6zUIIbafPXM:&amp;tbnh=125&amp;tbnw=125&amp;prev=/images?q=children&amp;hl=en&amp;gbv=2&amp;tbs=isch:1" TargetMode="External"/><Relationship Id="rId2" Type="http://schemas.openxmlformats.org/officeDocument/2006/relationships/hyperlink" Target="http://www.google.com.au/imgres?imgurl=http://proudatheists.files.wordpress.com/2009/07/9children.jpg&amp;imgrefurl=http://proudatheists.wordpress.com/2009/07/06/how-much-does-jesus-love-the-little-children/&amp;usg=__X8kha3jVPj8egkr2F_om6th7d2g=&amp;h=419&amp;w=418&amp;sz=47&amp;hl=en&amp;start=1&amp;itbs=1&amp;tbnid=Wz-6zUIIbafPXM:&amp;tbnh=125&amp;tbnw=125&amp;prev=/images?q=children&amp;hl=en&amp;gbv=2&amp;tbs=isch:1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contextid.com/images/context_big.gif&amp;imgrefurl=http://www.contextid.com/&amp;h=350&amp;w=350&amp;sz=8&amp;hl=en&amp;start=11&amp;um=1&amp;tbnid=krTP9OG4lZUobM:&amp;tbnh=120&amp;tbnw=120&amp;prev=/images?q=context&amp;gbv=2&amp;um=1&amp;hl=e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mh.com.au/interactive/2009/national/calling-australia-home/index.html" TargetMode="External"/><Relationship Id="rId2" Type="http://schemas.openxmlformats.org/officeDocument/2006/relationships/hyperlink" Target="http://www.youtube.com/watch?v=b2A9EwmsqXg" TargetMode="External"/><Relationship Id="rId3" Type="http://schemas.openxmlformats.org/officeDocument/2006/relationships/hyperlink" Target="http://www.youtube.com/watch?v=b2A9EwmsqXg" TargetMode="External"/><Relationship Id="rId4" Type="http://schemas.openxmlformats.org/officeDocument/2006/relationships/hyperlink" Target="http://www.youtube.com/watch?v=b2A9EwmsqXg" TargetMode="Externa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youtube.com/watch?v=nyf7iugNk14" TargetMode="External"/><Relationship Id="rId3" Type="http://schemas.openxmlformats.org/officeDocument/2006/relationships/hyperlink" Target="http://www.youtube.com/watch?v=nyf7iugNk14" TargetMode="External"/><Relationship Id="rId4" Type="http://schemas.openxmlformats.org/officeDocument/2006/relationships/hyperlink" Target="http://www.youtube.com/watch?v=nyf7iugNk14" TargetMode="External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i.ehow.com/images/GlobalPhoto/Articles/2144870/meantchr-main_Full.jpg&amp;imgrefurl=http://www.ehow.com/how_2144870_develop-classroom-management-techniques.html&amp;h=599&amp;w=452&amp;sz=35&amp;hl=en&amp;start=16&amp;tbnid=VFqcJ72vb0obmM:&amp;tbnh=135&amp;tbnw=102&amp;prev=/images?q=CLASSROOM+MANAGEMENT&amp;gbv=2&amp;hl=en&amp;sa=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Boy%20at%20Blackboard"/>
          <p:cNvPicPr/>
          <p:nvPr/>
        </p:nvPicPr>
        <p:blipFill>
          <a:blip r:embed="rId1"/>
          <a:stretch/>
        </p:blipFill>
        <p:spPr>
          <a:xfrm>
            <a:off x="-1523880" y="-638280"/>
            <a:ext cx="12191760" cy="8134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Psychological Principles of Classroom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2290680" y="2060640"/>
            <a:ext cx="60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ulture and communit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Value of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want to get ahead, get a theory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 what to 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lain our pract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ging it – ‘just get on with it’ – doing the same unsuccessful thing over and over-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nk, Pair, Sh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do you believe is meant by the ter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aching discip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haviour Management / Mod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sbehavio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appropriate behavio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 behavio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luences on Disciplinary Pract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liefs about children and their behavio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lues about education and discip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3492360" y="836640"/>
            <a:ext cx="17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564000" y="83664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3348000" y="76500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564000" y="98100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3492360" y="549360"/>
            <a:ext cx="15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3203640" y="62064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3419640" y="62064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3419640" y="476280"/>
            <a:ext cx="3311280" cy="720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635280" y="54936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liefs about children and their behaviou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4500720" y="1268280"/>
            <a:ext cx="360360" cy="505080"/>
          </a:xfrm>
          <a:prstGeom prst="downArrow">
            <a:avLst>
              <a:gd name="adj1" fmla="val 50000"/>
              <a:gd name="adj2" fmla="val 3504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3564000" y="1844640"/>
            <a:ext cx="3168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3635280" y="18446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s about education and discipl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AutoShape 18"/>
          <p:cNvSpPr/>
          <p:nvPr/>
        </p:nvSpPr>
        <p:spPr>
          <a:xfrm>
            <a:off x="4572000" y="256536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3564000" y="3213000"/>
            <a:ext cx="2808360" cy="4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2627280" y="335772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21"/>
          <p:cNvSpPr/>
          <p:nvPr/>
        </p:nvSpPr>
        <p:spPr>
          <a:xfrm>
            <a:off x="3995640" y="3284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nk of respons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AutoShape 22"/>
          <p:cNvSpPr/>
          <p:nvPr/>
        </p:nvSpPr>
        <p:spPr>
          <a:xfrm>
            <a:off x="4500720" y="371628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3564000" y="4365720"/>
            <a:ext cx="2665440" cy="64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3635280" y="436572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traints – context, policy, suppo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AutoShape 25"/>
          <p:cNvSpPr/>
          <p:nvPr/>
        </p:nvSpPr>
        <p:spPr>
          <a:xfrm>
            <a:off x="4500720" y="515772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26"/>
          <p:cNvSpPr/>
          <p:nvPr/>
        </p:nvSpPr>
        <p:spPr>
          <a:xfrm>
            <a:off x="3780000" y="5805360"/>
            <a:ext cx="2233440" cy="4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3995640" y="5877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act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AutoShape 28"/>
          <p:cNvSpPr/>
          <p:nvPr/>
        </p:nvSpPr>
        <p:spPr>
          <a:xfrm rot="16200000">
            <a:off x="6767640" y="310500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AutoShape 29"/>
          <p:cNvSpPr/>
          <p:nvPr/>
        </p:nvSpPr>
        <p:spPr>
          <a:xfrm rot="5400000">
            <a:off x="3024360" y="317664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30"/>
          <p:cNvSpPr/>
          <p:nvPr/>
        </p:nvSpPr>
        <p:spPr>
          <a:xfrm>
            <a:off x="611280" y="3213000"/>
            <a:ext cx="2232000" cy="4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684360" y="321300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al The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32"/>
          <p:cNvSpPr/>
          <p:nvPr/>
        </p:nvSpPr>
        <p:spPr>
          <a:xfrm>
            <a:off x="7308720" y="3213000"/>
            <a:ext cx="1656000" cy="64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33"/>
          <p:cNvSpPr/>
          <p:nvPr/>
        </p:nvSpPr>
        <p:spPr>
          <a:xfrm>
            <a:off x="7380360" y="32130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ories of discipl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Line 34"/>
          <p:cNvSpPr/>
          <p:nvPr/>
        </p:nvSpPr>
        <p:spPr>
          <a:xfrm flipH="1">
            <a:off x="394920" y="595008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Line 35"/>
          <p:cNvSpPr/>
          <p:nvPr/>
        </p:nvSpPr>
        <p:spPr>
          <a:xfrm flipV="1">
            <a:off x="250920" y="429228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36"/>
          <p:cNvSpPr/>
          <p:nvPr/>
        </p:nvSpPr>
        <p:spPr>
          <a:xfrm>
            <a:off x="0" y="1557360"/>
            <a:ext cx="539640" cy="2592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-270360" y="1628640"/>
            <a:ext cx="729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flection on pract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38"/>
          <p:cNvSpPr/>
          <p:nvPr/>
        </p:nvSpPr>
        <p:spPr>
          <a:xfrm flipV="1">
            <a:off x="250920" y="76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Line 39"/>
          <p:cNvSpPr/>
          <p:nvPr/>
        </p:nvSpPr>
        <p:spPr>
          <a:xfrm>
            <a:off x="395280" y="76500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liefs about childr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beliefs about children will colour everything that happens in your classroom both educationally and in terms of student discipline’ (Kohn 1996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AutoShape 5">
            <a:hlinkClick r:id="rId1"/>
          </p:cNvPr>
          <p:cNvSpPr/>
          <p:nvPr/>
        </p:nvSpPr>
        <p:spPr>
          <a:xfrm>
            <a:off x="3976560" y="2833560"/>
            <a:ext cx="11908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AutoShape 7">
            <a:hlinkClick r:id="rId2"/>
          </p:cNvPr>
          <p:cNvSpPr/>
          <p:nvPr/>
        </p:nvSpPr>
        <p:spPr>
          <a:xfrm>
            <a:off x="3976560" y="2833560"/>
            <a:ext cx="11908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9" descr="9children"/>
          <p:cNvPicPr/>
          <p:nvPr/>
        </p:nvPicPr>
        <p:blipFill>
          <a:blip r:embed="rId3"/>
          <a:stretch/>
        </p:blipFill>
        <p:spPr>
          <a:xfrm>
            <a:off x="2556000" y="3068640"/>
            <a:ext cx="3981240" cy="34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87280" y="907920"/>
            <a:ext cx="77932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elf, pair, shar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 child, how were you expected to beha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appened when you did not meet those expectation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 teacher what are your expectations of childr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ould be your responses to children who do not meet those expectation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ature of Childr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cked / evil / sinful / delinqu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ults must maintain strict control over th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ldren need to be socialised / tamed / civilised / disciplined – punish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view underpins the use of rewards for behaviour for whic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w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posite 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ldren are innocent / need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ies that if a child acts disruptively – do not understand / they are misunderstood or mistre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Beliefs about children’s behaviou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728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sbehaviour? Is it in the eye of the behold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ent diseng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behavioural difficulty or educational issu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k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What do you attribute behavioural difficulty to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child or the nature of your teach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9144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y – teacher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6% blamed home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0% blamed child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% aspects of te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ents and children bl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acher unfairness – favoritism / picking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ting at / not listening to / not recognizing students work / too much homework / lack of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Croll &amp; Moses 1985 cited in Miller 200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ulture and Commun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udents in Australia’s classrooms today? From what kind of families do they come fro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stralia: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 land of cultural divers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Picture 5" descr="banner_australia"/>
          <p:cNvPicPr/>
          <p:nvPr/>
        </p:nvPicPr>
        <p:blipFill>
          <a:blip r:embed="rId1"/>
          <a:stretch/>
        </p:blipFill>
        <p:spPr>
          <a:xfrm>
            <a:off x="2411280" y="4149720"/>
            <a:ext cx="4896000" cy="21128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173880" y="6225120"/>
            <a:ext cx="906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ustralian classrooms are among the most culturally and linguistically diverse in the world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umptions about academic vs behavioural err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539640" y="1844640"/>
            <a:ext cx="3456000" cy="48218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cademic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iden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vi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need for tea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with learning difficulties need modified tea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4572000" y="1844640"/>
            <a:ext cx="3240000" cy="5248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havioural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be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hap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puni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with behavioural difficulties need to be puni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onal &amp; Professional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 values = p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n and tidy classro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 values – trust / considerate / fair (code of condu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l teachers face two main challenge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a teaching go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a learning go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liefs about children and behavi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ersonal and professional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actice informed by knowledge of discipline &amp; behavi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3995640" y="3500280"/>
            <a:ext cx="505080" cy="576360"/>
          </a:xfrm>
          <a:prstGeom prst="downArrow">
            <a:avLst>
              <a:gd name="adj1" fmla="val 50000"/>
              <a:gd name="adj2" fmla="val 285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3995640" y="4581360"/>
            <a:ext cx="505080" cy="576360"/>
          </a:xfrm>
          <a:prstGeom prst="downArrow">
            <a:avLst>
              <a:gd name="adj1" fmla="val 50000"/>
              <a:gd name="adj2" fmla="val 285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793280" cy="36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333399"/>
                </a:solidFill>
                <a:latin typeface="Tahoma"/>
              </a:rPr>
              <a:t>What’s the number one reason for teachers leaving the profession?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Answer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Tahoma"/>
              </a:rPr>
              <a:t>Classroom management issues (the less serious behaviour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Classroom management refers to how you organise, deliver, monitor and communicate your progra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also includes attention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at behaviours do you see as disruptive in classrooms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USA : absenteeism and la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UK : talking out of turn, and annoying other students with boys the main conce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ustralia / NZ: disobedience, refusal to obey instructions and insol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uty of Car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6" name="Picture 5" descr="qweq"/>
          <p:cNvPicPr/>
          <p:nvPr/>
        </p:nvPicPr>
        <p:blipFill>
          <a:blip r:embed="rId1"/>
          <a:stretch/>
        </p:blipFill>
        <p:spPr>
          <a:xfrm>
            <a:off x="1258920" y="1844640"/>
            <a:ext cx="6265800" cy="392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uty of c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otional or psychological harm at school = loss of educational opportunities=reduced employability=less career pro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Picture 4" descr="MPj04225910000%5B1%5D"/>
          <p:cNvPicPr/>
          <p:nvPr/>
        </p:nvPicPr>
        <p:blipFill>
          <a:blip r:embed="rId1"/>
          <a:stretch/>
        </p:blipFill>
        <p:spPr>
          <a:xfrm>
            <a:off x="3492360" y="4076640"/>
            <a:ext cx="3527640" cy="23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No quick solu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lassroom management is very complex are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Myth “You just need a good pla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Picture 5" descr="puppets"/>
          <p:cNvPicPr/>
          <p:nvPr/>
        </p:nvPicPr>
        <p:blipFill>
          <a:blip r:embed="rId1"/>
          <a:stretch/>
        </p:blipFill>
        <p:spPr>
          <a:xfrm>
            <a:off x="3348000" y="3716280"/>
            <a:ext cx="288144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Context specifi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lassroom management issues are very </a:t>
            </a:r>
            <a:r>
              <a:rPr b="0" lang="en-AU" sz="2400" spc="-1" strike="noStrike">
                <a:solidFill>
                  <a:srgbClr val="ff0000"/>
                </a:solidFill>
                <a:latin typeface="Tahoma"/>
              </a:rPr>
              <a:t>context specific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e.g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ite private sch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ingle sex/coeducational sch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ountry school with very stable pop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ountry school with transient pop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High SES sch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ow SES sch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ndependent religious based sch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ndependent philosophically aligned sch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Picture 5" descr="context_bi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62064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smh.com.au/interactive/2009/national/calling-australia-home/index.ht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chool in 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</a:t>
            </a:r>
            <a:r>
              <a:rPr b="0" lang="en-AU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www.youtube.com/watch?v</a:t>
            </a:r>
            <a:r>
              <a:rPr b="0" lang="en-AU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=b2A9EwmsqX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Children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7" name="Picture 4" descr="pkg_dollsDebby_lg"/>
          <p:cNvPicPr/>
          <p:nvPr/>
        </p:nvPicPr>
        <p:blipFill>
          <a:blip r:embed="rId1"/>
          <a:stretch/>
        </p:blipFill>
        <p:spPr>
          <a:xfrm>
            <a:off x="826920" y="198900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5"/>
          <p:cNvSpPr/>
          <p:nvPr/>
        </p:nvSpPr>
        <p:spPr>
          <a:xfrm>
            <a:off x="1946520" y="5931000"/>
            <a:ext cx="54936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www.youtube.com/watch?v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=nyf7iugNk14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4716360" y="2205360"/>
            <a:ext cx="4138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y schools pledg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 am a kid at hop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 am talented, smart and capable of succes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 have dreams for the future and i will climb to reach those goals and dreams everyda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ll children are capable of succes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O EXCEPTIONS!!!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easure Hunter's Pledg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 adult and a Treasure Hun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am committed to search for all the talents, skills and intelligence that exists in all children and you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believe all children are capable of success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Exceptions!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torative Just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torative Justice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esses the importance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lationship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v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abov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u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Picture 5" descr="kidsdolls_lg"/>
          <p:cNvPicPr/>
          <p:nvPr/>
        </p:nvPicPr>
        <p:blipFill>
          <a:blip r:embed="rId1"/>
          <a:stretch/>
        </p:blipFill>
        <p:spPr>
          <a:xfrm>
            <a:off x="4284720" y="3357720"/>
            <a:ext cx="3809880" cy="27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Understanding what we want to achie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your theory of classroom climate, routines, and communication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5" descr="3d-puppets-people-managing-dolls-puppets-thumb3866223"/>
          <p:cNvPicPr/>
          <p:nvPr/>
        </p:nvPicPr>
        <p:blipFill>
          <a:blip r:embed="rId1"/>
          <a:stretch/>
        </p:blipFill>
        <p:spPr>
          <a:xfrm>
            <a:off x="3132000" y="3284640"/>
            <a:ext cx="381636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Educational Theory?</a:t>
            </a:r>
            <a:br>
              <a:rPr sz="4400"/>
            </a:b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Control vs Freed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Tahoma"/>
              </a:rPr>
              <a:t>Conserve vs trans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Tahoma"/>
              </a:rPr>
              <a:t>Conserve – cultural n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Tahoma"/>
              </a:rPr>
              <a:t>Transform – empow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en-AU" sz="3200" spc="-1" strike="noStrike">
                <a:solidFill>
                  <a:srgbClr val="ff0000"/>
                </a:solidFill>
                <a:latin typeface="Tahoma"/>
              </a:rPr>
              <a:t>independent thin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Picture 5" descr="3d-puppets-people-managing-dolls-puppets-thumb3866223"/>
          <p:cNvPicPr/>
          <p:nvPr/>
        </p:nvPicPr>
        <p:blipFill>
          <a:blip r:embed="rId1"/>
          <a:stretch/>
        </p:blipFill>
        <p:spPr>
          <a:xfrm>
            <a:off x="6443640" y="1844640"/>
            <a:ext cx="2519280" cy="36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Educational Theory?</a:t>
            </a:r>
            <a:br>
              <a:rPr sz="4400"/>
            </a:b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Teacher vs Chil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eacher – top down – pre determin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hild – bottom up – child originated teacher fram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Discipline Catego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Leadersh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on-directive interv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Picture 5" descr="meantchr-main_Fu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4149720"/>
            <a:ext cx="135252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hildren as “blank slate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task is to fill children with information and skills – deemed useful to socie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Passive learners – passive behaviours =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op-down approach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hild focussed 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not 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child cent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155520" y="46080"/>
            <a:ext cx="8859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AutoShape 9"/>
          <p:cNvSpPr/>
          <p:nvPr/>
        </p:nvSpPr>
        <p:spPr>
          <a:xfrm>
            <a:off x="4129200" y="2943360"/>
            <a:ext cx="885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11"/>
          <p:cNvSpPr/>
          <p:nvPr/>
        </p:nvSpPr>
        <p:spPr>
          <a:xfrm>
            <a:off x="4129200" y="2943360"/>
            <a:ext cx="885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Picture 13" descr="blank_slate"/>
          <p:cNvPicPr/>
          <p:nvPr/>
        </p:nvPicPr>
        <p:blipFill>
          <a:blip r:embed="rId1"/>
          <a:stretch/>
        </p:blipFill>
        <p:spPr>
          <a:xfrm>
            <a:off x="6948360" y="260280"/>
            <a:ext cx="1871640" cy="20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Leadersh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hildren develop from an interaction between inner and outer fo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Behaviour is a product of many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hildren + social experiences = grow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Picture 5" descr="2137729430_11b29f9164"/>
          <p:cNvPicPr/>
          <p:nvPr/>
        </p:nvPicPr>
        <p:blipFill>
          <a:blip r:embed="rId1"/>
          <a:stretch/>
        </p:blipFill>
        <p:spPr>
          <a:xfrm>
            <a:off x="2556000" y="4221000"/>
            <a:ext cx="446544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Non-direct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hildren develop from “inner unfolding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Must be allowed t direct them sel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Personal growth = no direct interv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Picture 5" descr="flower"/>
          <p:cNvPicPr/>
          <p:nvPr/>
        </p:nvPicPr>
        <p:blipFill>
          <a:blip r:embed="rId1"/>
          <a:stretch/>
        </p:blipFill>
        <p:spPr>
          <a:xfrm>
            <a:off x="3780000" y="4005360"/>
            <a:ext cx="2071440" cy="26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EVERYBODY!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rls and boy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original and Torres Strait Islander student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learning English as a second languag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from low socioeconomic background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with special gifts and talent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with special education needs;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isolated from schoo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udents’ autonomy -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6000" y="1267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larify your attitudes 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hild development is solely determined by external environment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evelopment is an inner unfolding of poten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evelopment results from inner and outer fo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ff0000"/>
                </a:solidFill>
                <a:latin typeface="Tahoma"/>
              </a:rPr>
              <a:t>Ethical practice – do what is right, just and good rather than what is convenient or pract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A Personal philosophy</a:t>
            </a: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You must have a clearly articulated personal philosop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is is your star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point when dec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-what do you belie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bout children 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learn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Picture 7" descr="image_teacher"/>
          <p:cNvPicPr/>
          <p:nvPr/>
        </p:nvPicPr>
        <p:blipFill>
          <a:blip r:embed="rId1"/>
          <a:stretch/>
        </p:blipFill>
        <p:spPr>
          <a:xfrm>
            <a:off x="5219640" y="2492280"/>
            <a:ext cx="3619440" cy="382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Deciding on a model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riteria to use.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Philosophical basis – teacher control vs student autonom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Examine model assumptions to evaluate their valid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Validity – your experience / research / personal jud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Your goal as a teacher...</a:t>
            </a: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evelop an </a:t>
            </a:r>
            <a:r>
              <a:rPr b="0" lang="en-AU" sz="3200" spc="-1" strike="noStrike">
                <a:solidFill>
                  <a:srgbClr val="ff0000"/>
                </a:solidFill>
                <a:latin typeface="Tahoma"/>
              </a:rPr>
              <a:t>eclectic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model that will work for yo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Tahoma"/>
              </a:rPr>
              <a:t>Task: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 select components from various discipline models and create an effectiv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What works with one student won’t work with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Persona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eaching is a personality driven 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eachers who ‘control’ with their personality can also do great </a:t>
            </a:r>
            <a:r>
              <a:rPr b="0" lang="en-AU" sz="2800" spc="-1" strike="noStrike">
                <a:solidFill>
                  <a:srgbClr val="ff0000"/>
                </a:solidFill>
                <a:latin typeface="Tahoma"/>
              </a:rPr>
              <a:t>ha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eaching requires the ability to act, perform, to be dra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Have to be confident and also be able to pretend to be confid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uck on the lak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classroom management p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onsider how you: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foster effective relationshi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reate class ident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give instr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ensure co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ques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lis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Being ‘friends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Effective teaching/learning relationships </a:t>
            </a:r>
            <a:r>
              <a:rPr b="0" lang="en-AU" sz="3200" spc="-1" strike="noStrike">
                <a:solidFill>
                  <a:srgbClr val="ff0000"/>
                </a:solidFill>
                <a:latin typeface="Tahoma"/>
              </a:rPr>
              <a:t>are not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predicated on being ‘friends’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y are enhanced when students know what to expect, are treated respectfully, challenged but allowed to maintain their dign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333399"/>
                </a:solidFill>
                <a:latin typeface="Tahoma"/>
              </a:rPr>
              <a:t>Classroom rules should be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eflective of school rules, philosophy  and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ositively st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udent cent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ew in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nforc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minently display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upported consistently by appropriate con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eacher control             student autono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Tahoma"/>
              </a:rPr>
              <a:t>Management, leadership, non-directive interv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99"/>
                </a:solidFill>
                <a:latin typeface="Tahoma"/>
              </a:rPr>
              <a:t>Management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: Behaviour modification, assertive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99"/>
                </a:solidFill>
                <a:latin typeface="Tahoma"/>
              </a:rPr>
              <a:t>Leadership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Democratic discipline, Choice theory, reality thera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99"/>
                </a:solidFill>
                <a:latin typeface="Tahoma"/>
              </a:rPr>
              <a:t>NDI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:  Teacher effectiveness training, Pai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Line 7"/>
          <p:cNvSpPr/>
          <p:nvPr/>
        </p:nvSpPr>
        <p:spPr>
          <a:xfrm>
            <a:off x="4284720" y="2276640"/>
            <a:ext cx="1154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For Week 2 tutorial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ad Chapter 2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Making decisions about discipline’ p25-5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Acknowledging diversity</a:t>
            </a:r>
            <a:br>
              <a:rPr sz="4400"/>
            </a:b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in the class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2420640"/>
            <a:ext cx="8353440" cy="40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tudents in NSW government schools come from diverse cultural, linguistic, social, economic, geographic and family contex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ahoma"/>
              </a:rPr>
              <a:t>27%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 (206,000) of students are from language backgrounds other than Engli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ahoma"/>
              </a:rPr>
              <a:t>25%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 (150,000) of students are in Priority Sch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ahoma"/>
              </a:rPr>
              <a:t>11%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 (82,000) of students are in ESL pro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ahoma"/>
              </a:rPr>
              <a:t>5%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 (36,000) of students are Aboriginal and Torres Strait Isla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ahoma"/>
              </a:rPr>
              <a:t>4%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 (33,000) of students have a confirmed dis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ahoma"/>
              </a:rPr>
              <a:t>2%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 (12,000) of students are refuge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These differences are not mutually exclusive - an individual student may belong to one or more of these group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tudents in any of these groups may also be gifted and/or       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talen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Students come to classrooms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with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levels of 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learning sty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motiv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prior understandings and ski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pers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home l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Classroom Immer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ink – Pair – Sh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What norms, assumptions, values were held by the school commun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ing Decisions about Discip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d you know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 000 hours are spent at sch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hievement and attitude are related to schooling 20-25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mily 5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room factors – greater influence – greater variation than sch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05:01:53Z</dcterms:created>
  <dc:creator>IT&amp;S</dc:creator>
  <dc:description/>
  <dc:language>en-US</dc:language>
  <cp:lastModifiedBy>user</cp:lastModifiedBy>
  <dcterms:modified xsi:type="dcterms:W3CDTF">2010-08-01T04:35:37Z</dcterms:modified>
  <cp:revision>168</cp:revision>
  <dc:subject/>
  <dc:title>Slide 1</dc:title>
</cp:coreProperties>
</file>